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77075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4A0B-9A1C-4FDC-BF98-18F13DA9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084-B1FB-44F1-9572-5E05E863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44FB-DFBC-49F4-8F9B-0DDEF469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79F4-6AEE-40BD-AFAE-A01D02FC5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5AEB-61DB-48C4-95B7-0B96A5F5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0C98-155A-4C96-9D49-11C614BAB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0F5-594A-47F6-893C-6DC2204F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A098-AE21-4A4D-BC41-77940D7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EE86-05E2-45CA-93E4-4B03EDAD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85AD-F512-46B5-8228-56E82E67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2EF-31A5-4DFF-AF62-E9410F7C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871-204C-4C15-8525-606FD363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2FBA73-3A2E-4FEF-8CA7-C9DABE9679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2D772E-C476-407E-A691-3F018FD04D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4476600" y="4689360"/>
            <a:ext cx="4545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Centre </a:t>
            </a:r>
            <a:r>
              <a:rPr b="1" lang="fr-CA" sz="2200" spc="-1" strike="noStrike">
                <a:solidFill>
                  <a:srgbClr val="ffffff"/>
                </a:solidFill>
                <a:latin typeface="Georgia"/>
              </a:rPr>
              <a:t>d’accès</a:t>
            </a: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 en emploi du 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pour des employe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Distribution et promotion des offres d’emplois s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fra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ccès aux candidat(e)s présélectionné(e)s pour 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subvention de salaire durant la périod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ossibilité d’une prime pour embaucher un appr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vec rétention des employ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No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lieux et </a:t>
            </a:r>
            <a:r>
              <a:rPr b="1" lang="fr-CA" sz="3600" spc="-1" strike="noStrike">
                <a:solidFill>
                  <a:srgbClr val="ffffff"/>
                </a:solidFill>
                <a:latin typeface="Georgia"/>
              </a:rPr>
              <a:t>heures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352440" y="1814400"/>
            <a:ext cx="6175440" cy="37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180, avenue Argyle, 4i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-Mardi ~ 8h30 - 16: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-Jeudi ~ 8h30 - 19: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- 16:00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Nos lieux et heures d’ouver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352440" y="1814400"/>
            <a:ext cx="6458040" cy="38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Centre d’achats Merivale, 2ème é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Té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Lundi - Mardi ~ 8h30 – 19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Mercredi - Jeudi ~ 8h30 – 16h0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Georgia"/>
              </a:rPr>
              <a:t>Vendredi ~ 8h30 – 4h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Qu’est-ce que le Centre d’a</a:t>
            </a:r>
            <a:r>
              <a:rPr b="1" lang="fr-CA" sz="2800" spc="-1" strike="noStrike">
                <a:solidFill>
                  <a:srgbClr val="ffffff"/>
                </a:solidFill>
                <a:latin typeface="Georgia"/>
              </a:rPr>
              <a:t>ccès</a:t>
            </a:r>
            <a:r>
              <a:rPr b="1" lang="en-US" sz="2700" spc="-1" strike="noStrike">
                <a:solidFill>
                  <a:srgbClr val="ffffff"/>
                </a:solidFill>
                <a:latin typeface="Georgia"/>
              </a:rPr>
              <a:t> en emploi du Y?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52440" y="1979640"/>
            <a:ext cx="617544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sans frais, qui aide les individus avec leurs recherche d’emplo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Le CAE est un programme Emploi Ontario et est financé par le gouvernement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offre un variété de services pour aider les Ontariens à trouver un emploi du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Il fournit divers services aux employeurs autorises à recruter e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Services d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1) Ressources et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2) Consultation en 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3) Jumelage travailleur-emploi et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Georgia"/>
              </a:rPr>
              <a:t>4) Maintien de l’empl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Orientation (I&amp;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52440" y="1676520"/>
            <a:ext cx="6305400" cy="44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Centres de res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ccès aux post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Ordinateurs avec l’accès Internet et un logiciel pour créer un 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Téléphone, imprimeur, télécopieur et photocopi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Variété d’ateliers concernant la recherche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Information concernant les programmes d’apprenti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Recommandation aux autres programmes communau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Aide avec les CV et lettres de pré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Participation aux foires d’emplo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Distribution des offres d’emploi par courri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*Il n’y a pas de critères d’éligibilité pour ces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/consultation d’emplo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Critères d’éligibilité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Pas aux études à temps plein (plus de 20 heures par sema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Sans emploi (ou moins de 20 heures par semain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ligible à travailler au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Résident(e) de l’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Recherche d’emplo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676520"/>
            <a:ext cx="6305400" cy="54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individualis</a:t>
            </a:r>
            <a:r>
              <a:rPr b="0" lang="fr-CA" sz="18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 et rencontre avec un(e) consultant(e) en emploi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ssistance et accompagnement dans le développement de CV, recherche d’emploi, stratégies de réseautage, préparation aux entrevues, exploration de carrières, et beaucoup plu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Clarification en matière d’emploi et de form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ide a établir des objectifs a cour et a long term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Soutien et orientation</a:t>
            </a:r>
            <a:r>
              <a:rPr b="0" lang="fr-CA" sz="1900" spc="-1" strike="noStrike">
                <a:solidFill>
                  <a:srgbClr val="c0504d"/>
                </a:solidFill>
                <a:latin typeface="Georgia"/>
              </a:rPr>
              <a:t> </a:t>
            </a: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ux programmes du Ministère comme Deuxième carriè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Accès aux programmes Clés en mai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900" spc="-1" strike="noStrike">
                <a:solidFill>
                  <a:srgbClr val="000000"/>
                </a:solidFill>
                <a:latin typeface="Georgia"/>
              </a:rPr>
              <a:t>*Pour ceux qui sont éligibl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Passez au Centre de Ressourc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ppelez-nous ou envoyez un courriel pour fixer un rendez-vou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haque jour il y’a un(e) Consultant(e) en emploi disponible pour vous rencontrer sans rendez-vous mais sur base de premier arrivé, premier ser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Les Consultant(e) s en emploi vous orienteront vers les services les plus appropri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Comment s’inscr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umelage emploi et aide au plac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1676520"/>
            <a:ext cx="63054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Conseil individuel avec un agent(e) de développement d’emploi en matière de recherche d’emploi, réseautage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Information sur la sante et sécurité au trav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et les droits des travailleur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ide a jumeler les chercheurs d’emploi avec les employeurs potenti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Georgia"/>
              </a:rPr>
              <a:t>Assistance a la recherche d’un apprentissage et possibilité d’une bourse d’apprentissage/stage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Maintien de l’emploi/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outien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trouver un emploi durable ou emploi avec possibilit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é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d’avanc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Accès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à </a:t>
            </a: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s mentors/formateu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ssurer le suivi de la relation avec le men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Georgia"/>
              </a:rPr>
              <a:t>Développer un plan de soutien pour améliorer l'employabilité et le maintien de l'emplo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Faire le suivi des st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26:01Z</dcterms:modified>
  <cp:revision>31</cp:revision>
  <dc:subject/>
  <dc:title>Slide 1</dc:title>
</cp:coreProperties>
</file>